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BD6-F407-4082-967F-62E1E138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407-D04E-4B39-9CC1-C811BB5D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38A-812B-4495-88EC-FF090818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FE2-E4EF-4AED-BCCE-936E82DC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AB5-B431-4CE4-AAAB-7741640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FD2-9912-4C02-9D3A-185178E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D53-704E-404B-B950-E6738DD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13E-090D-4231-AB25-749374D0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50C-9B97-4A7A-8F8D-1BA9C13C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77B-B6C9-4CA6-A41A-5F4BB5E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19C-CA23-4ED0-9650-83AB2E2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F11-CAC1-4AF3-BEE8-3C6EA0E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E5CB-3B28-401A-AF3A-511CD7A5A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historyunstuffed.com/german-expressionism/" TargetMode="External"/><Relationship Id="rId2" Type="http://schemas.openxmlformats.org/officeDocument/2006/relationships/hyperlink" Target="http://www.germanculture.com.ua/library/weekly/gerhard_richter.htm" TargetMode="External"/><Relationship Id="rId3" Type="http://schemas.openxmlformats.org/officeDocument/2006/relationships/hyperlink" Target="http://www.baroquemusic.org/bqxjsbach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1371600"/>
            <a:ext cx="6670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erman Customs and Traditions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rthistoryunstuffed.com/german-expressionis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rmanculture.com.ua/library/weekly/gerhard_richter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roquemusic.org/bqxjsbach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paightwoodgalleries.com/Media/Pechstein_Kopf_F14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files.list.co.uk/images/2008/11/27/richter-mustang-staffe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mpire.k12.ca.us/capistrano/Mike/capmusic/baroque/bach/bach.h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expressionism was more connected to relationships between art and society, politics and popular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vant-gar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sts tried to free themselves of state restri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reamed of utopian dreams involving individual creativity, but want to reach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rman expressionists were concerned about keeping their individuality while still relating to the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ressionism” in Germany meant “modern art”. There was a rejection of traditional Western conventions dating back to the Renaiss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152280"/>
            <a:ext cx="5753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rman Expressionis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362320" y="15228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chstein Kop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Dresden in 19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work is full of art depicted reality and the actuality of pai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to work with artists such as Sigmar Polke, Konrad Fischer-Lu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with Polke and Fischer-Lueg, he created a group called the Capitalist Real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ist Realists were satirical, deriving ideas from print med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47920" y="22860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rhard Ric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28640" y="1852560"/>
            <a:ext cx="5886720" cy="31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14600" y="53352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ustang Staffe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on March 21st l685 in the town of Eisen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offered the post of violinist in the small chamber orchestra of Duke Johann Er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high ideals for the church music of German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organizing all of the facilities of Mühlhau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h arrived at the small Court of Anhalt-Cöthen and received the rank of Kapellmeister. This was the highest rank given to any musician during the baroque ag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28800" y="152280"/>
            <a:ext cx="5105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hann Sebastian Ba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23856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133720" y="22860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rtrait of Ba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What did the Avant-garde artists try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When was Gerhard b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Free themselves from state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35:49Z</dcterms:created>
  <dc:creator>SCSadmin</dc:creator>
  <dc:description/>
  <dc:language>en-US</dc:language>
  <cp:lastModifiedBy>SCSadmin</cp:lastModifiedBy>
  <dcterms:modified xsi:type="dcterms:W3CDTF">2011-10-27T13:58:47Z</dcterms:modified>
  <cp:revision>12</cp:revision>
  <dc:subject/>
  <dc:title>Slide 1</dc:title>
</cp:coreProperties>
</file>